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FFE-66BA-4411-94BF-999B4614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69A-3546-441D-B1F8-0E5DEAEE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C39-F76B-4580-BA38-177BAE9E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6AC-DEB2-4F5C-87B6-5754AF79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8624-EB8B-41CD-8BEA-22FF3EEF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6D85-9949-4B91-81B7-4E8BD93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2521-0B06-4ADE-8148-22BCDAAD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2C1A-5283-42BE-BDAD-64232945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DA56-94DA-45EE-B97A-56D76EDF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BA8D-3392-4E17-B5DE-71996EE9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32E9-31FC-4CF9-B0DA-AD3FAEC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D06-8EFC-4C9A-997F-FAF1BE31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C21B-7978-400C-B5ED-2E343EC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72CD-B6AB-423F-91EC-2C9446A0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C08F-15B5-4740-85DA-C7B312D4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C5D8-DC1B-430A-8396-1310DD63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D195-A1A3-495E-867D-92461740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127-E686-4012-9AAE-B78E85F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24F-9A63-4222-9AA6-F094E8C1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8C4-0F01-4580-9242-2CF2949A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D52-ACBD-4FF4-82D1-D9E94D44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437-3E76-4CD1-93FF-337E83C8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E87-2289-4FB8-9FCF-D0C3127D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236-CF7C-41B2-9B49-72542316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E1E1-8982-4694-88DA-938E3ECCED4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34F3-6871-4C61-894D-411AEA93AE5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zdaf.ro/poveste-de-toamna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53f35"/>
                </a:solidFill>
                <a:latin typeface="Arial"/>
              </a:rPr>
              <a:t>Noapte de toamnă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George Toparceanu</a:t>
            </a:r>
            <a:br>
              <a:rPr sz="3200"/>
            </a:b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asa 11B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li</a:t>
            </a:r>
            <a:r>
              <a:rPr b="0" lang="ro-RO" sz="3200" spc="-1" strike="noStrike">
                <a:solidFill>
                  <a:srgbClr val="2f1311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anu Angelic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</a:t>
            </a:r>
            <a:r>
              <a:rPr b="0" lang="ro-RO" sz="3200" spc="-1" strike="noStrike">
                <a:solidFill>
                  <a:srgbClr val="2f1311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 Alin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ult</a:t>
            </a:r>
            <a:r>
              <a:rPr b="0" lang="ro-RO" sz="3200" spc="-1" strike="noStrike">
                <a:solidFill>
                  <a:srgbClr val="2f1311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scu Sab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Murmur lung de streşini, risipite şoapte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Cresc de pretutindeni şi se pierd în noapte.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Rareori prin storuri o lumină scapă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De-mi aprinde-n cale reci oglinzi de apă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Şi-mi trimite-n faţă raza ei răsfrântă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Ploaia bate-n geamuri, streşinile cântă.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Dar treptat, cu larmă potolită scade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Cântecul acestui tremur de cascade.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Tot mai des în preajmă umbre vii răsar,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Ploaia peste case pică tot mai ra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Şi-n grămezi de neguri apele se strâng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Să sărute urma paşilor de-acum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024360" cy="16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Lumea-ntreagă doarme, streşinile plâng.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Până când o rază de argint în zar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Lămurind pe boltă straturi de ninsoar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Lin desface umbra şi de crengi anină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Scânteieri albastre, boabe de lumină.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Iar acum din taina cerului deschis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Peste firea mută cad lumini de vis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Şi-n troiene albe norii se desfac…</a:t>
            </a:r>
            <a:br>
              <a:rPr sz="1400"/>
            </a:b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Dar când iese luna, streşinile tac.</a:t>
            </a:r>
            <a:br>
              <a:rPr sz="1400"/>
            </a:b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Dormi, iubire dulce!…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Numai eu întârziu, singur pe cărar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Farmecul acestei clipe călătoare…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Gândurile mele vin să te deştept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Din pridvorul tainic să cobori pe trepte.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Să cobori în toamna limpede şi rece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Şi, visând cu mine clipa care trec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Să-mi sporeşti tristeţea ceasului târziu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Când, străin de tine, sufletu-mi pustiu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Va porni zadarnic, rătăcind pe drum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Să sărute urma paşilor de-acum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1752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Toamna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572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68510"/>
                </a:solidFill>
                <a:uFillTx/>
                <a:latin typeface="Arial"/>
                <a:hlinkClick r:id="rId1"/>
              </a:rPr>
              <a:t>Poveste de toamna</a:t>
            </a:r>
            <a:r>
              <a:rPr b="0" lang="en-US" sz="4000" spc="-1" strike="noStrike" u="sng">
                <a:solidFill>
                  <a:srgbClr val="853f35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69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  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Intr-o duminică după-amiază, intr-o toamnă frumoasă şi caldă, ieşisesi din casă  hotărât să-ţi scoţi gândurile la plimbare. Te-ai  indreptat către parcul de langă casa bunicilor şi cu ele de mână, te-ai aşezat pe o băncuţă retrasă, să-ţi tragi sufletul, chinuit de atâtea frământări. Inchizi ochii, incerci să te eliberezi de tine, să-ţi goleşti mintea, să-ţi uiţi sentimentele, să încetezi să fii uman. Dar iţi apare un surâs pe buze când o rază de soare iţi mângâie jucăuş chipul, printre ramurile indoliate. Te-ai inconjurat de un adevărat cimitir de frunze, oriunde ai privi, ele zac moarte lângă tine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     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Şi din toate câte sunt, ridici in mâini una singură. Intreagă sau strivită de alte frunze, respirând viaţă prin nervuri sau deja chinuită de apropierea morţii, nici nu mai contează, e frunza ta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  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Te-ai intors acasă. Obosit, inainte de culcare, ţi-ai uitat frunza pe birou. Sora ta o consideră doar o altă frunză pentru ierbarul tău, părinţii nici nu au observat-o in palma ta cand te-ai intors acasă, au fost mai ingrijoraţi că ai intârziat la masă, cât despre bunici… Poate nici nu mai ai bunicii lângă tine, să ştii dacă au observat frunza 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Tu ai ştiut că frunza asta e specială. Poate din simplul motiv că e a ta, ai ştiut că are o poveste şi motive pentru care s-a sinucis. Deşi ceilalti ţi-ar spune că nu merită, tu eşti convins că e deosebită.Şi o păstrezi pentru că ai ales-o şi pentru că este a ta. Incepi să te intrebi dacă in parc, lângă băncuţă unde te-ai odihnit, nu erau alte frunze mai frumoase, mai mari sau mai colorate? Hmm … cam târziu pentru regrete. Te frământă şi întrebarea dacă frunza ta e mulţumită că ai ales-o tocmai tu? Oare îşi dorea pe altcineva, te visa altfel? Te considera suficient de bun pentru a o păstra? Dacă intr-o zi iţi va arunca in faţă durerosul adevăr că nu are sentimente pentru tine?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    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E târziu…Şi-ţi place să crezi că merită, deşi ştii in adâncul fiinţei tale că nu merge. Că frunza se va ofili, că vei rămâne singur, că ei nu i-a păsat nicicum că visele tale purtau coloritul ei. E târziu şi te amăgeşti că va fi frumos, cât va fi, că vei ramâne cu amintiri de neuitat, că asta e tot ce contează. Te fură somnul, gândurile ţi s-au imprăştiat  printre vise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    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Pe birou, nervurile frunzei crapă. Şi tu rămâi singur, amăgit de visele tale, preocupat de propriile visuri, sperând că merită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    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Acum nu mai e noapte, toamna s-a dus demult, dar tu continui să te invălui in singurătate..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31920" y="596880"/>
            <a:ext cx="545148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Toamna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Răsună din margini de târg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Un bangat puternic de armă;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E toamnă... metalic s-aud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Gorniştii, in fund, la cazarm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S-aude şi-un clopot de scoală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E vânt, şi-i pustiu, dimineata;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Hârtii şi cu frunze, de-a valma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Fac roata-n vârteje, pe-o piaţ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Se uită in zări catedrala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Cu turnu-i sever si trufaş;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Grădina oraşului plânge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Şi-aruncă frunzişu-n oraş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Şi vine,ca-n vremi de demult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Din mărgini, un bucium de-alarmă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E toamnă... metalic s-aud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Gorniştii, in fund, la cazarmă.</a:t>
            </a:r>
            <a:br>
              <a:rPr sz="1600"/>
            </a:b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2f1311"/>
                </a:solidFill>
                <a:latin typeface="Arial"/>
              </a:rPr>
              <a:t>Autor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: George Bacovia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26920" y="2085840"/>
            <a:ext cx="56502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0:21:42Z</dcterms:created>
  <dc:creator>elev</dc:creator>
  <dc:description/>
  <dc:language>en-US</dc:language>
  <cp:lastModifiedBy>elev</cp:lastModifiedBy>
  <dcterms:modified xsi:type="dcterms:W3CDTF">2010-11-08T07:19:14Z</dcterms:modified>
  <cp:revision>5</cp:revision>
  <dc:subject/>
  <dc:title>Noapte de toamna</dc:title>
</cp:coreProperties>
</file>